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29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28.wmf" ContentType="image/x-wmf"/>
  <Override PartName="/ppt/media/image4.wmf" ContentType="image/x-wmf"/>
  <Override PartName="/ppt/media/image27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</p:sldIdLst>
  <p:sldSz cx="12193588" cy="6858000"/>
  <p:notesSz cx="678973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0"/>
            <a:ext cx="67896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dt" idx="19"/>
          </p:nvPr>
        </p:nvSpPr>
        <p:spPr>
          <a:xfrm>
            <a:off x="3844800" y="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Img"/>
          </p:nvPr>
        </p:nvSpPr>
        <p:spPr>
          <a:xfrm>
            <a:off x="87480" y="744120"/>
            <a:ext cx="661320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20"/>
          </p:nvPr>
        </p:nvSpPr>
        <p:spPr>
          <a:xfrm>
            <a:off x="-360" y="9425160"/>
            <a:ext cx="294156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 type="sldNum" idx="21"/>
          </p:nvPr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B6D7C-F57E-463E-AC2C-B861806CDEA1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66D8A-0A82-4C98-ACB6-3836C674F0F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6B428-30A0-4C88-BA38-4B637024DE09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853C9-CF68-475B-B45B-6F589E7565F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B2855-8626-473C-9F55-6D77152F13A5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9637D-7B69-494E-86D2-30F509226C03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A0AFE-F673-45B8-B968-4E0B548CEC37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EA79E-E7E0-4B15-9694-8E25392FE91D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C98AF-04EB-4989-B648-F6095ABD3C3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2B4AB-8702-4217-A94F-F40643AA0DA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F6966-E713-48F8-9C9D-0DC2F07E0ADF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85AFD-3339-4B7E-9356-4E209590EE0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08B0-E066-4E20-9223-AD531D57BC0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122E9-9141-42F7-A271-80AEE104BE6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87480" y="744480"/>
            <a:ext cx="6613200" cy="372132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77880" y="4712760"/>
            <a:ext cx="543240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Espaço Reservado para Número de Slide 3"/>
          <p:cNvSpPr/>
          <p:nvPr/>
        </p:nvSpPr>
        <p:spPr>
          <a:xfrm>
            <a:off x="3844800" y="9425160"/>
            <a:ext cx="29419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090D7-3C34-4FC8-90AF-C61CAE983296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6B661-7F33-4D89-BAB4-19D71B3A53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B26B-186B-4092-94E8-97783FC72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DFA5-1E0C-41E7-B22F-3C2160EA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C085-937C-49E2-B7D6-E4C512876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C72D0-6CBC-4B54-AA83-EE924E748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4B065-C5CE-4E81-B4A4-6B50E433D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D8902-643A-40CD-9348-E26021C0D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4A084-5712-41B3-95E5-7AD654FF4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FEF9-87FE-4A73-A24D-61A52A4BB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C9AB0-2F74-4B3D-B0D0-E077E54E4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545B8-38CE-4709-963A-47D6A6FA3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7612-B4E3-428C-89D3-859BFE42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7FF9B-7918-4D9F-B385-73493915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1A128-028E-4ED5-BF57-1FA4ACDFC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814A3-7544-4F63-96BF-756EF0719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4254C-E489-4917-B86A-F4F1B6EF5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0035C-886B-4E13-AABC-8D48ABD07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C86CF4-554E-4B68-A0B3-848893A9B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9FD42E-7FE7-4910-977A-A464AF16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4DB2-437E-4CD8-86F6-991D3592C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CF7FD-54FE-4323-B965-443E696B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B86837-43AD-4DC0-A377-92F660B6C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1DB38-01A6-47A9-AABB-0D0FDB200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3EB2CF-6AB3-43FC-9205-7282F6143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372B22-EC09-42EB-93B5-0E8EB89C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DFB56A-3AB2-4366-B746-FA8C029E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256953-5CDF-47BF-88EA-04DC8FB2B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ED992-E318-44A8-BC3E-1DCBA4FC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8D98-E2EA-4942-9781-A688929C7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D5818E-915B-451D-877E-E6B7A1E7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881FF9-FA1B-4EC9-8C19-E2D667067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A1CFC7-234A-4D85-8EE7-1536A707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C1AE2-13AD-4CDF-A0E1-291B54B0F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3D06-6C11-4DF7-90EA-18E33299B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092B39-5161-43F7-9797-0E2506277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6D9759-3A6C-41B9-9E80-CF937027C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BF3359-D080-4D42-AE9D-3649D8327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BCAF7C-54EE-4DCA-BC92-ECF17A43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561CE1-FF05-4E4A-AF1D-2F92C125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E9776-E113-4E19-B527-8255106C6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39181-1BC8-4BDC-945B-3F8623C40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7508A-9F81-4115-987B-BD560726C0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400BF5-F3FA-48BE-8926-C532A06B6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A4904-C12E-4E37-88DC-1B48BA65C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F93D-503B-4E0D-9BF3-7361D9BF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ABB08D-04A9-405D-B064-34EE5A3165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BA4651-6204-437E-A8C0-69A98AF70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041B5A-F7ED-4562-A4F8-54B28DE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0E0A6E-9096-4E4E-BA20-C7DC69797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5608CE-1984-4977-9B23-8131B28C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95210-6029-4C23-95C7-CF7C5BD5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D8761-8A76-4373-99B3-B42EA8A2D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C357B-CB3B-4712-A4A8-69B9139FD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140FA3-0F4C-4A57-AEB3-F8E30779B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5CA0B4-1275-468E-BB96-FE61A3F6C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230D-411A-452C-B8B9-062B6B04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66CC30-EBED-4195-805B-77E4D92B9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8C69FE-DA1D-442B-BCAE-D2328E430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EB19D4-56A5-4481-8276-EE7A014D6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E1AC2-EE27-45E5-9BEB-5E91AE604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5F0E1D-E62E-4F4D-A46D-60195D70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135B9E-AD43-4478-A2F8-748556210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609480" y="5569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8D71D7-695A-4A5C-9C94-C3738C911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9D015-F253-4681-9DED-AA5F2F203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BF588-65FD-4439-B4BD-38541977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410D8-214B-41FB-89F2-3A6FA9123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501B-36F9-4503-B4CA-682724C4B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9F5CA2-B758-4ECF-B620-769E3522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A7FDF6-48A9-4EE0-92BB-A46B608E3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31964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8029800" y="170028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60948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31964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8029800" y="4012200"/>
            <a:ext cx="35330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58340-345C-4CAC-9A2B-E82B4A3E2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32320" y="401220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8A671-1E10-42F5-A616-7BBB0735A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32320" y="1700280"/>
            <a:ext cx="53546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09480" y="4012200"/>
            <a:ext cx="1097280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D9AC9-E8D2-4AFD-824C-B2C6DFECB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E49E7-1307-4066-BA26-5B31129CA083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F3F1-E025-4329-8F7C-3BACC846F77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C484E-1E0A-4FAB-AEC6-E54BA28CA857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FA17C-6034-42EB-97FF-5BA3AECD1200}" type="slidenum">
              <a:rPr b="1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0E1E6-4964-47DC-BC66-46BF05F8DBE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DAE3D-98B6-476A-A6AC-A0E9E6FA541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813B9-E0D3-4E21-B306-40FF8CE7BB1D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10A11-ABE7-40CC-8DDE-3CD244F78F2A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169" name="Retângulo 7"/>
          <p:cNvSpPr/>
          <p:nvPr/>
        </p:nvSpPr>
        <p:spPr>
          <a:xfrm>
            <a:off x="11106000" y="6356520"/>
            <a:ext cx="384480" cy="501480"/>
          </a:xfrm>
          <a:prstGeom prst="rect">
            <a:avLst/>
          </a:prstGeom>
          <a:solidFill>
            <a:srgbClr val="92d050">
              <a:alpha val="8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51FF2-8976-4CC0-8E7B-FAB1ADAF6CD9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38DF7-AE6B-46CD-A538-B4B1DDA88E40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Imagem 2" descr=""/>
          <p:cNvPicPr/>
          <p:nvPr/>
        </p:nvPicPr>
        <p:blipFill>
          <a:blip r:embed="rId2"/>
          <a:stretch/>
        </p:blipFill>
        <p:spPr>
          <a:xfrm>
            <a:off x="12600" y="0"/>
            <a:ext cx="1216656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5569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09480" y="1700280"/>
            <a:ext cx="1097280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7870A-DC9F-415F-A99F-4FF432D0191B}" type="datetime">
              <a:rPr b="0" lang="pt-B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1A7-1382-4862-9077-D59D98130E34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Figura2"/>
          <p:cNvPicPr/>
          <p:nvPr/>
        </p:nvPicPr>
        <p:blipFill>
          <a:blip r:embed="rId1"/>
          <a:stretch/>
        </p:blipFill>
        <p:spPr>
          <a:xfrm>
            <a:off x="2208240" y="1189080"/>
            <a:ext cx="7543800" cy="519264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1055520" y="838080"/>
            <a:ext cx="9361800" cy="60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RESULTADO DO REGIME GERAL DE PREVIDÊNCIA SOCIAL – RGP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Brasília, Janeiro de 201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Text Box 2"/>
          <p:cNvSpPr/>
          <p:nvPr/>
        </p:nvSpPr>
        <p:spPr>
          <a:xfrm>
            <a:off x="3168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Rectangle 3"/>
          <p:cNvSpPr/>
          <p:nvPr/>
        </p:nvSpPr>
        <p:spPr>
          <a:xfrm>
            <a:off x="30240" y="549360"/>
            <a:ext cx="9666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Imagem 1" descr=""/>
          <p:cNvPicPr/>
          <p:nvPr/>
        </p:nvPicPr>
        <p:blipFill>
          <a:blip r:embed="rId1"/>
          <a:stretch/>
        </p:blipFill>
        <p:spPr>
          <a:xfrm>
            <a:off x="30240" y="1052640"/>
            <a:ext cx="11538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0" y="64562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F de 01/201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0" y="509760"/>
            <a:ext cx="955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Imagem 1" descr=""/>
          <p:cNvPicPr/>
          <p:nvPr/>
        </p:nvPicPr>
        <p:blipFill>
          <a:blip r:embed="rId1"/>
          <a:stretch/>
        </p:blipFill>
        <p:spPr>
          <a:xfrm>
            <a:off x="0" y="1230480"/>
            <a:ext cx="12072960" cy="52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3"/>
          <p:cNvSpPr/>
          <p:nvPr/>
        </p:nvSpPr>
        <p:spPr>
          <a:xfrm>
            <a:off x="12600" y="549360"/>
            <a:ext cx="9539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de dezembro/2018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Imagem 1" descr=""/>
          <p:cNvPicPr/>
          <p:nvPr/>
        </p:nvPicPr>
        <p:blipFill>
          <a:blip r:embed="rId1"/>
          <a:stretch/>
        </p:blipFill>
        <p:spPr>
          <a:xfrm>
            <a:off x="12600" y="1378080"/>
            <a:ext cx="1184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3"/>
          <p:cNvSpPr/>
          <p:nvPr/>
        </p:nvSpPr>
        <p:spPr>
          <a:xfrm>
            <a:off x="27000" y="476280"/>
            <a:ext cx="952488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Imagem 1" descr=""/>
          <p:cNvPicPr/>
          <p:nvPr/>
        </p:nvPicPr>
        <p:blipFill>
          <a:blip r:embed="rId1"/>
          <a:stretch/>
        </p:blipFill>
        <p:spPr>
          <a:xfrm>
            <a:off x="27000" y="1438200"/>
            <a:ext cx="12045960" cy="495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2"/>
          <p:cNvSpPr/>
          <p:nvPr/>
        </p:nvSpPr>
        <p:spPr>
          <a:xfrm>
            <a:off x="0" y="4762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072960" cy="5040360"/>
          </a:xfrm>
          <a:prstGeom prst="rect">
            <a:avLst/>
          </a:prstGeom>
          <a:ln w="0">
            <a:noFill/>
          </a:ln>
        </p:spPr>
      </p:pic>
      <p:sp>
        <p:nvSpPr>
          <p:cNvPr id="300" name="Rectangle 2"/>
          <p:cNvSpPr/>
          <p:nvPr/>
        </p:nvSpPr>
        <p:spPr>
          <a:xfrm>
            <a:off x="0" y="907920"/>
            <a:ext cx="1048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cresceu 1,4% (+R$ 5,6 bilhões), a despesa com benefícios previdenciários 2,3% (+R$ 13,2 bilhões) e o Resultado Previdenciário apresentou elevação de 4,0% (+R$ 7,6 bilhõ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3"/>
          <p:cNvSpPr/>
          <p:nvPr/>
        </p:nvSpPr>
        <p:spPr>
          <a:xfrm>
            <a:off x="0" y="5493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9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Imagem 1" descr=""/>
          <p:cNvPicPr/>
          <p:nvPr/>
        </p:nvPicPr>
        <p:blipFill>
          <a:blip r:embed="rId1"/>
          <a:stretch/>
        </p:blipFill>
        <p:spPr>
          <a:xfrm>
            <a:off x="0" y="1052640"/>
            <a:ext cx="11712600" cy="53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F de 01/2019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3"/>
          <p:cNvSpPr/>
          <p:nvPr/>
        </p:nvSpPr>
        <p:spPr>
          <a:xfrm>
            <a:off x="-7920" y="549360"/>
            <a:ext cx="95788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Imagem 1" descr=""/>
          <p:cNvPicPr/>
          <p:nvPr/>
        </p:nvPicPr>
        <p:blipFill>
          <a:blip r:embed="rId1"/>
          <a:stretch/>
        </p:blipFill>
        <p:spPr>
          <a:xfrm>
            <a:off x="-7920" y="1052640"/>
            <a:ext cx="12080880" cy="53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2"/>
          <p:cNvSpPr/>
          <p:nvPr/>
        </p:nvSpPr>
        <p:spPr>
          <a:xfrm>
            <a:off x="162000" y="47628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57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2"/>
          <p:cNvSpPr/>
          <p:nvPr/>
        </p:nvSpPr>
        <p:spPr>
          <a:xfrm>
            <a:off x="15840" y="538200"/>
            <a:ext cx="95360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54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3"/>
          <p:cNvSpPr/>
          <p:nvPr/>
        </p:nvSpPr>
        <p:spPr>
          <a:xfrm>
            <a:off x="0" y="547560"/>
            <a:ext cx="96249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 e Despesa com Benefícios Previdenciários, nos últimos 25 meses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–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4"/>
          <p:cNvSpPr/>
          <p:nvPr/>
        </p:nvSpPr>
        <p:spPr>
          <a:xfrm>
            <a:off x="4995720" y="112248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7"/>
          <p:cNvSpPr/>
          <p:nvPr/>
        </p:nvSpPr>
        <p:spPr>
          <a:xfrm>
            <a:off x="1908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Imagem 1" descr=""/>
          <p:cNvPicPr/>
          <p:nvPr/>
        </p:nvPicPr>
        <p:blipFill>
          <a:blip r:embed="rId1"/>
          <a:stretch/>
        </p:blipFill>
        <p:spPr>
          <a:xfrm>
            <a:off x="0" y="1195560"/>
            <a:ext cx="12144240" cy="5329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2"/>
          <p:cNvSpPr/>
          <p:nvPr/>
        </p:nvSpPr>
        <p:spPr>
          <a:xfrm>
            <a:off x="0" y="549360"/>
            <a:ext cx="962496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Arrecadação Líqu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Corrente, Recuperação de Créditos e Transferência a Terceiros, nos últimos 25 meses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6"/>
          <p:cNvSpPr/>
          <p:nvPr/>
        </p:nvSpPr>
        <p:spPr>
          <a:xfrm>
            <a:off x="263520" y="63817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Imagem 1" descr=""/>
          <p:cNvPicPr/>
          <p:nvPr/>
        </p:nvPicPr>
        <p:blipFill>
          <a:blip r:embed="rId1"/>
          <a:stretch/>
        </p:blipFill>
        <p:spPr>
          <a:xfrm>
            <a:off x="0" y="1341360"/>
            <a:ext cx="1207296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0" y="476280"/>
            <a:ext cx="9551880" cy="7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Composição da Despesa com Benefícios Previdenciár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Benefícios Pagos pelo INSS e Sentenças Judiciais nos últimos 25 meses </a:t>
            </a:r>
            <a:r>
              <a:rPr b="0" lang="pt-BR" sz="1500" spc="-1" strike="noStrike">
                <a:solidFill>
                  <a:srgbClr val="000000"/>
                </a:solidFill>
                <a:latin typeface="Arial"/>
              </a:rPr>
              <a:t>– Em R$ bilhões de dezembro/2018 (INPC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5"/>
          <p:cNvSpPr/>
          <p:nvPr/>
        </p:nvSpPr>
        <p:spPr>
          <a:xfrm>
            <a:off x="4752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Imagem 1" descr=""/>
          <p:cNvPicPr/>
          <p:nvPr/>
        </p:nvPicPr>
        <p:blipFill>
          <a:blip r:embed="rId1"/>
          <a:stretch/>
        </p:blipFill>
        <p:spPr>
          <a:xfrm>
            <a:off x="47520" y="1268280"/>
            <a:ext cx="12096720" cy="511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2"/>
          <p:cNvSpPr/>
          <p:nvPr/>
        </p:nvSpPr>
        <p:spPr>
          <a:xfrm>
            <a:off x="-4680" y="476280"/>
            <a:ext cx="9624960" cy="6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a Previdência Social – nos últimos 25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17"/>
          <p:cNvSpPr/>
          <p:nvPr/>
        </p:nvSpPr>
        <p:spPr>
          <a:xfrm>
            <a:off x="0" y="641340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Imagem 1" descr=""/>
          <p:cNvPicPr/>
          <p:nvPr/>
        </p:nvPicPr>
        <p:blipFill>
          <a:blip r:embed="rId1"/>
          <a:stretch/>
        </p:blipFill>
        <p:spPr>
          <a:xfrm>
            <a:off x="0" y="1087560"/>
            <a:ext cx="12192120" cy="5294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2"/>
          <p:cNvSpPr/>
          <p:nvPr/>
        </p:nvSpPr>
        <p:spPr>
          <a:xfrm>
            <a:off x="0" y="549360"/>
            <a:ext cx="96076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por Clientela – Média móvel de 12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9 a dezembro/2018) –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milhões de dezembro/2018 - INPC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3"/>
          <p:cNvSpPr/>
          <p:nvPr/>
        </p:nvSpPr>
        <p:spPr>
          <a:xfrm>
            <a:off x="0" y="6426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Imagem 1" descr=""/>
          <p:cNvPicPr/>
          <p:nvPr/>
        </p:nvPicPr>
        <p:blipFill>
          <a:blip r:embed="rId1"/>
          <a:stretch/>
        </p:blipFill>
        <p:spPr>
          <a:xfrm>
            <a:off x="0" y="1123920"/>
            <a:ext cx="12192120" cy="53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2"/>
          <p:cNvSpPr/>
          <p:nvPr/>
        </p:nvSpPr>
        <p:spPr>
          <a:xfrm>
            <a:off x="4680" y="549360"/>
            <a:ext cx="954720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Média móvel de 12 mes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9 a dezembro/2018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(INPC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3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Imagem 1" descr=""/>
          <p:cNvPicPr/>
          <p:nvPr/>
        </p:nvPicPr>
        <p:blipFill>
          <a:blip r:embed="rId1"/>
          <a:stretch/>
        </p:blipFill>
        <p:spPr>
          <a:xfrm>
            <a:off x="4680" y="1125360"/>
            <a:ext cx="12139560" cy="532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2"/>
          <p:cNvSpPr/>
          <p:nvPr/>
        </p:nvSpPr>
        <p:spPr>
          <a:xfrm>
            <a:off x="0" y="47628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3"/>
          <p:cNvSpPr/>
          <p:nvPr/>
        </p:nvSpPr>
        <p:spPr>
          <a:xfrm>
            <a:off x="47520" y="6381720"/>
            <a:ext cx="986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Imagem 1" descr=""/>
          <p:cNvPicPr/>
          <p:nvPr/>
        </p:nvPicPr>
        <p:blipFill>
          <a:blip r:embed="rId1"/>
          <a:stretch/>
        </p:blipFill>
        <p:spPr>
          <a:xfrm>
            <a:off x="47520" y="90792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Text Box 2"/>
          <p:cNvSpPr/>
          <p:nvPr/>
        </p:nvSpPr>
        <p:spPr>
          <a:xfrm>
            <a:off x="4680" y="909720"/>
            <a:ext cx="9620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dezembro de 2018, a quantidade de benefícios previdenciários e acidentários emitidos pela Previdência aumentou 32,9%, passando de 22,8 milhões para 30,3 milhõ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"/>
          <p:cNvSpPr/>
          <p:nvPr/>
        </p:nvSpPr>
        <p:spPr>
          <a:xfrm>
            <a:off x="4680" y="549360"/>
            <a:ext cx="9620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629dd1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8 a 2018 (dezembr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4"/>
          <p:cNvSpPr/>
          <p:nvPr/>
        </p:nvSpPr>
        <p:spPr>
          <a:xfrm>
            <a:off x="4680" y="6381720"/>
            <a:ext cx="10082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o Desenvolvimento Social e Combate à Fo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Imagem 1" descr=""/>
          <p:cNvPicPr/>
          <p:nvPr/>
        </p:nvPicPr>
        <p:blipFill>
          <a:blip r:embed="rId1"/>
          <a:stretch/>
        </p:blipFill>
        <p:spPr>
          <a:xfrm>
            <a:off x="4680" y="1366920"/>
            <a:ext cx="12139560" cy="50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0" y="476280"/>
            <a:ext cx="9696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3"/>
          <p:cNvSpPr/>
          <p:nvPr/>
        </p:nvSpPr>
        <p:spPr>
          <a:xfrm>
            <a:off x="192240" y="6435720"/>
            <a:ext cx="663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Imagem 2" descr=""/>
          <p:cNvPicPr/>
          <p:nvPr/>
        </p:nvPicPr>
        <p:blipFill>
          <a:blip r:embed="rId1"/>
          <a:stretch/>
        </p:blipFill>
        <p:spPr>
          <a:xfrm>
            <a:off x="334800" y="1557360"/>
            <a:ext cx="11161800" cy="48783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2"/>
          <p:cNvSpPr/>
          <p:nvPr/>
        </p:nvSpPr>
        <p:spPr>
          <a:xfrm>
            <a:off x="0" y="981000"/>
            <a:ext cx="104886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urbana cresceu 1,4% (+R$ 5,2 bilhões), a despesa com benefícios previdenciários 2,8% (+R$ 12,9 bilhões) e o Resultado Previdenciário apresentou elevação de 10,3% (+R$ 7,7 bilhões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2"/>
          <p:cNvSpPr/>
          <p:nvPr/>
        </p:nvSpPr>
        <p:spPr>
          <a:xfrm>
            <a:off x="0" y="581040"/>
            <a:ext cx="962496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Valor Médio Real dos Benefícios Emitidos do Regime Geral de Previdência Social (2011 a 2018)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Média de Janeiro a Dezembro de cada ano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Em R$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ectangle 3"/>
          <p:cNvSpPr/>
          <p:nvPr/>
        </p:nvSpPr>
        <p:spPr>
          <a:xfrm>
            <a:off x="0" y="1044720"/>
            <a:ext cx="9767880" cy="43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O valor médio real dos benefícios do RGPS atingiu R$ 1.404,67, na média de janeiro a dezembro de 2018, o que representou um crescimento de 11,1% em relação ao mesmo período de 201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4"/>
          <p:cNvSpPr/>
          <p:nvPr/>
        </p:nvSpPr>
        <p:spPr>
          <a:xfrm>
            <a:off x="6555600" y="4956120"/>
            <a:ext cx="1093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Variação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+11,1%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5"/>
          <p:cNvSpPr/>
          <p:nvPr/>
        </p:nvSpPr>
        <p:spPr>
          <a:xfrm flipV="1">
            <a:off x="3139920" y="5229360"/>
            <a:ext cx="3422880" cy="6206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Line 6"/>
          <p:cNvSpPr/>
          <p:nvPr/>
        </p:nvSpPr>
        <p:spPr>
          <a:xfrm flipH="1">
            <a:off x="7608960" y="2852640"/>
            <a:ext cx="3456000" cy="22399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7"/>
          <p:cNvSpPr/>
          <p:nvPr/>
        </p:nvSpPr>
        <p:spPr>
          <a:xfrm>
            <a:off x="334800" y="6367320"/>
            <a:ext cx="8610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Inclui apenas os benefícios previdenciários e acidentári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Imagem 1" descr=""/>
          <p:cNvPicPr/>
          <p:nvPr/>
        </p:nvPicPr>
        <p:blipFill>
          <a:blip r:embed="rId1"/>
          <a:stretch/>
        </p:blipFill>
        <p:spPr>
          <a:xfrm>
            <a:off x="4680" y="1565280"/>
            <a:ext cx="12050640" cy="474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Text Box 2"/>
          <p:cNvSpPr/>
          <p:nvPr/>
        </p:nvSpPr>
        <p:spPr>
          <a:xfrm>
            <a:off x="0" y="6303960"/>
            <a:ext cx="120729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Fontes: DATAPREV, SUB, SINTESE.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Obs.: A existência de benefícios com valores inferiores ao salário mínimo deve-se ao desmembramento de pensões e ao pagamento de benefícios como o salário-família, o auxílio suplementar, o auxílio acidente e o abono de permanênci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3"/>
          <p:cNvSpPr/>
          <p:nvPr/>
        </p:nvSpPr>
        <p:spPr>
          <a:xfrm>
            <a:off x="4871880" y="2133720"/>
            <a:ext cx="568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cc0000"/>
                </a:solidFill>
                <a:latin typeface="Arial"/>
              </a:rPr>
              <a:t>Cerca de 66,5% dos benefícios pagos pelo INSS em dez/2018 possuíam o valor de até um salário mínimo, o que representa um contingente de 23,3 milhões de beneficiári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6"/>
          <p:cNvSpPr/>
          <p:nvPr/>
        </p:nvSpPr>
        <p:spPr>
          <a:xfrm>
            <a:off x="334800" y="746280"/>
            <a:ext cx="108014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istribuição de Benefícios Emitidos, segundo faixas de Valores </a:t>
            </a:r>
            <a:br>
              <a:rPr sz="1600"/>
            </a:b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Pisos Previdenciários (Posição em dezembro/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em 1" descr=""/>
          <p:cNvPicPr/>
          <p:nvPr/>
        </p:nvPicPr>
        <p:blipFill>
          <a:blip r:embed="rId1"/>
          <a:stretch/>
        </p:blipFill>
        <p:spPr>
          <a:xfrm>
            <a:off x="0" y="1251000"/>
            <a:ext cx="12192120" cy="50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6480" y="549360"/>
            <a:ext cx="954540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3"/>
          <p:cNvSpPr/>
          <p:nvPr/>
        </p:nvSpPr>
        <p:spPr>
          <a:xfrm>
            <a:off x="0" y="645624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Imagem 1" descr=""/>
          <p:cNvPicPr/>
          <p:nvPr/>
        </p:nvPicPr>
        <p:blipFill>
          <a:blip r:embed="rId1"/>
          <a:stretch/>
        </p:blipFill>
        <p:spPr>
          <a:xfrm>
            <a:off x="6480" y="105264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Rectangle 2"/>
          <p:cNvSpPr/>
          <p:nvPr/>
        </p:nvSpPr>
        <p:spPr>
          <a:xfrm>
            <a:off x="0" y="549360"/>
            <a:ext cx="96249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 Box 3"/>
          <p:cNvSpPr/>
          <p:nvPr/>
        </p:nvSpPr>
        <p:spPr>
          <a:xfrm>
            <a:off x="334800" y="6381720"/>
            <a:ext cx="82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Imagem 1" descr=""/>
          <p:cNvPicPr/>
          <p:nvPr/>
        </p:nvPicPr>
        <p:blipFill>
          <a:blip r:embed="rId1"/>
          <a:stretch/>
        </p:blipFill>
        <p:spPr>
          <a:xfrm>
            <a:off x="0" y="1260360"/>
            <a:ext cx="12144240" cy="50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34920" y="549360"/>
            <a:ext cx="9590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nomina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"/>
          <p:cNvSpPr/>
          <p:nvPr/>
        </p:nvSpPr>
        <p:spPr>
          <a:xfrm>
            <a:off x="0" y="6458040"/>
            <a:ext cx="663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Imagem 1" descr=""/>
          <p:cNvPicPr/>
          <p:nvPr/>
        </p:nvPicPr>
        <p:blipFill>
          <a:blip r:embed="rId1"/>
          <a:stretch/>
        </p:blipFill>
        <p:spPr>
          <a:xfrm>
            <a:off x="47520" y="1054080"/>
            <a:ext cx="1137780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3"/>
          <p:cNvSpPr/>
          <p:nvPr/>
        </p:nvSpPr>
        <p:spPr>
          <a:xfrm>
            <a:off x="-12600" y="476280"/>
            <a:ext cx="94089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9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2"/>
          <p:cNvSpPr/>
          <p:nvPr/>
        </p:nvSpPr>
        <p:spPr>
          <a:xfrm>
            <a:off x="27000" y="6437160"/>
            <a:ext cx="871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8 estimado de acordo com a Grade de Parâmetros da SPE/MF de 01/2019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Imagem 2" descr=""/>
          <p:cNvPicPr/>
          <p:nvPr/>
        </p:nvPicPr>
        <p:blipFill>
          <a:blip r:embed="rId1"/>
          <a:stretch/>
        </p:blipFill>
        <p:spPr>
          <a:xfrm>
            <a:off x="27000" y="1052640"/>
            <a:ext cx="12045960" cy="53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2"/>
          <p:cNvSpPr/>
          <p:nvPr/>
        </p:nvSpPr>
        <p:spPr>
          <a:xfrm>
            <a:off x="0" y="476280"/>
            <a:ext cx="955188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 (2017 e 2018) – Em R$ milhões de dezembro/2018 (INP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0" y="645012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Imagem 1" descr=""/>
          <p:cNvPicPr/>
          <p:nvPr/>
        </p:nvPicPr>
        <p:blipFill>
          <a:blip r:embed="rId1"/>
          <a:stretch/>
        </p:blipFill>
        <p:spPr>
          <a:xfrm>
            <a:off x="0" y="1268280"/>
            <a:ext cx="11928600" cy="521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3"/>
          <p:cNvSpPr/>
          <p:nvPr/>
        </p:nvSpPr>
        <p:spPr>
          <a:xfrm>
            <a:off x="0" y="476280"/>
            <a:ext cx="101995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Imagem 1" descr=""/>
          <p:cNvPicPr/>
          <p:nvPr/>
        </p:nvPicPr>
        <p:blipFill>
          <a:blip r:embed="rId1"/>
          <a:stretch/>
        </p:blipFill>
        <p:spPr>
          <a:xfrm>
            <a:off x="3240" y="119700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Text Box 2"/>
          <p:cNvSpPr/>
          <p:nvPr/>
        </p:nvSpPr>
        <p:spPr>
          <a:xfrm>
            <a:off x="33480" y="642636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F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14400" y="476280"/>
            <a:ext cx="961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9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2"/>
          <p:cNvSpPr/>
          <p:nvPr/>
        </p:nvSpPr>
        <p:spPr>
          <a:xfrm>
            <a:off x="0" y="981000"/>
            <a:ext cx="116409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4a66ac"/>
                </a:solidFill>
                <a:latin typeface="Arial"/>
                <a:ea typeface="Times New Roman"/>
              </a:rPr>
              <a:t>Entre 2018 e 2017, a arrecadação líquida rural cresceu 3,8% (+R$ 366,8 milhões), a despesa com benefícios previdenciários rural e o resultado previdenciário rural tiveram leves aumentos de 0,2% (+R$ 207,3 milhões)  e 0,1% (+R$ 159,5 milhões), respectivame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Imagem 1" descr=""/>
          <p:cNvPicPr/>
          <p:nvPr/>
        </p:nvPicPr>
        <p:blipFill>
          <a:blip r:embed="rId1"/>
          <a:stretch/>
        </p:blipFill>
        <p:spPr>
          <a:xfrm>
            <a:off x="33480" y="1484280"/>
            <a:ext cx="11679120" cy="494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12T16:57:42Z</dcterms:created>
  <dc:creator>46163212134</dc:creator>
  <dc:description/>
  <dc:language>en-US</dc:language>
  <cp:lastModifiedBy>Silvana do Socorro Machado Rodrigues - MPS</cp:lastModifiedBy>
  <cp:lastPrinted>2017-08-23T21:50:06Z</cp:lastPrinted>
  <dcterms:modified xsi:type="dcterms:W3CDTF">2019-02-11T12:26:48Z</dcterms:modified>
  <cp:revision>665</cp:revision>
  <dc:subject/>
  <dc:title>Demografia</dc:title>
</cp:coreProperties>
</file>